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4.jpeg" ContentType="image/jpeg"/>
  <Override PartName="/ppt/media/image1.png" ContentType="image/png"/>
  <Override PartName="/ppt/media/image2.wmf" ContentType="image/x-wmf"/>
  <Override PartName="/ppt/media/image15.jpeg" ContentType="image/jpeg"/>
  <Override PartName="/ppt/media/image3.wmf" ContentType="image/x-wmf"/>
  <Override PartName="/ppt/media/image1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7751880" y="6381720"/>
            <a:ext cx="241200" cy="40968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8066160" y="6489720"/>
            <a:ext cx="718920" cy="214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324000" y="303372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324000" y="400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3159000"/>
            <a:ext cx="8496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Периферийные устройст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4000" y="4221000"/>
            <a:ext cx="8496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49360"/>
            <a:ext cx="8496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иферийные устрой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мер и название специальност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ститут Информатики, Инноваций и Бизнес-систем, Кафедра ИСК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ичипоренко С.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4000" y="1413000"/>
            <a:ext cx="8496000" cy="493236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Жидкокристаллические дисплеи (LCD). Их появление связано с борьбой за снижение габаритов и веса переносных компьютер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Основной из недостаток - невозможность быстрого изменения картинок или быстрого движения курсора мыши и т.п. Такие экраны нуждаются в дополнительной подсветке или во внешнем освещении. Преимущества данных экранов - в значительном сокращении спектра вредных воздейств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иферийные устройства вывода информаци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нитор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4F296-E2A7-4B3F-A70E-C941E9F11DB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30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282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24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hoto02" descr=""/>
          <p:cNvPicPr/>
          <p:nvPr/>
        </p:nvPicPr>
        <p:blipFill>
          <a:blip r:embed="rId1"/>
          <a:stretch/>
        </p:blipFill>
        <p:spPr>
          <a:xfrm>
            <a:off x="3203640" y="1521000"/>
            <a:ext cx="1695240" cy="15429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2046600" y="2755080"/>
            <a:ext cx="380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Жидкокристаллический диспле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4000" y="1413000"/>
            <a:ext cx="8496000" cy="493236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лазменная панель представляет собой матрицу газонаполненных ячеек, заключенных между двумя параллельными стеклянными поверхностями. В качестве газовой среды обычно используется неон или ксенон. Разряд в газе протекает между прозрачным электродом лицевой стороне экрана и адресными электродами, проходящими по его задней стороне. Газовый разряд вызывает ультрафиолетовое излучение, которое, в свою очередь, инициирует видимое свечение люминофора. В цветных плазменных панелях каждый пиксель экрана состоит из трех ячеек с красным, зеленым и синим люминофор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иферийные устройства вывода информаци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нитор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74402-6FD9-4E40-A265-755BBD2C7AE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30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282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2444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eizo_685ex_bs" descr=""/>
          <p:cNvPicPr/>
          <p:nvPr/>
        </p:nvPicPr>
        <p:blipFill>
          <a:blip r:embed="rId1"/>
          <a:stretch/>
        </p:blipFill>
        <p:spPr>
          <a:xfrm>
            <a:off x="3887640" y="1557360"/>
            <a:ext cx="1114560" cy="172404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305160" y="3296520"/>
            <a:ext cx="246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лазменная панел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24000" y="1413000"/>
            <a:ext cx="8496000" cy="493236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тричные (игольчатые) принтеры - это самые дешевые аппараты, обеспечивающие удовлетворительное качество печати для широкого круга рутинных операций (главным образом для подготовки текстовых документов). Применяются в сберкассах, в промышленных условиях, где необходима  рулонная печать, печать на книжках и плотных карточках и других носителях из плотного материала. Достоинства: приемлемое качество печати при условии хорошей красящей ленты, возможности печати "под копирку". Недостатки: достаточно низкая скорость печати, особенно графических изображений, значительный уровень шума. Среди матичных принтеров есть и достаточно быстрые устройства (так называемые, Shattle-принтеры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руйные принтеры обеспечивают более высокое качество печати. Они особенно удобны для вывода цветных графических изображений. Применение чернил разного цвета дает сравнительно недорогое изображение приемлемого качества. Цветную модель называют СМYB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ya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gent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Yellow-Black) по названиям основных цветов, образующих палитр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иферийные устройства вывода информаци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нтер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E461E-1372-44BA-AC7E-61CE458B4A2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30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282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2444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24000" y="1413000"/>
            <a:ext cx="8496000" cy="493236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азерные принтеры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имеют еще более высокое качество печати, приближенное к фотографическому. Они стоят намного дороже, однако скорость печати в 4-5 раз выше, чем у матричных и струйных принтеров. Недостатком лазерных принтеров являются довольно жесткие требования к качеству бумаги - она должна быть достаточно плотной и не должна быть рыхлой, недопустима печать на бумаге  с пластиковым покрытием и т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ермические принтеры. Используются для получения цветного изображения фотографического качества. Требуют особой бумаги. Такие принтеры пригодны для деловой граф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иферийные устройства вывода информаци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нтер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2345D-F929-44BC-9E7F-2152FDCB751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30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282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2444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4000" y="1413000"/>
            <a:ext cx="8496000" cy="493236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азерные принтеры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имеют еще более высокое качество печати, приближенное к фотографическому. Они стоят намного дороже, однако скорость печати в 4-5 раз выше, чем у матричных и струйных принтеров. Недостатком лазерных принтеров являются довольно жесткие требования к качеству бумаги - она должна быть достаточно плотной и не должна быть рыхлой, недопустима печать на бумаге  с пластиковым покрытием и т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ермические принтеры. Используются для получения цветного изображения фотографического качества. Требуют особой бумаги. Такие принтеры пригодны для деловой граф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иферийные устройства вывода информаци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нтер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569FB-48C5-4D34-92DC-D294FB117DC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30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282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2444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24000" y="1413000"/>
            <a:ext cx="8496000" cy="493236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тройствами ввода  являются те устройства, посредством  которых можно ввести информацию  в  компьютер.  Главное  их предназначение - реализовывать воздействие на ПК.  Разнообразие выпускаемых устройств ввода породили целые технологии: от осязаемых до голосовы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лавным устройством   ввода  большинства  компьютерных систем является  клавиатур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лавиатуры различаются по двум признакам: способ подключения и дизайн. Подключение клавиатуры к компьютеру может осуществляться через порт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/2, USB и через ИК (инфракрасный) порт для беспроводных моделей. В последнем способе подключения клавиатура требует дополнительного источника питания, например батарейк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иферийные устройства ввода информаци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лавиатур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9282C-D61D-4702-A41C-3A7E3D4ABB3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30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282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2444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290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2" descr=""/>
          <p:cNvPicPr/>
          <p:nvPr/>
        </p:nvPicPr>
        <p:blipFill>
          <a:blip r:embed="rId1"/>
          <a:stretch/>
        </p:blipFill>
        <p:spPr>
          <a:xfrm>
            <a:off x="3456000" y="2637000"/>
            <a:ext cx="1257120" cy="105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24000" y="1413000"/>
            <a:ext cx="8496000" cy="493236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spcBef>
                <a:spcPts val="224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spcBef>
                <a:spcPts val="224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spcBef>
                <a:spcPts val="224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spcBef>
                <a:spcPts val="224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spcBef>
                <a:spcPts val="224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spcBef>
                <a:spcPts val="224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spcBef>
                <a:spcPts val="224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учные сканеры - самые простые и дешевые. Основной недостаток в том, что человек сам перемещает сканер по объекту, и качество полученного изображения зависит от умения и твердости руки. Другой важный недостаток - небольшая ширина полосы сканирования (до 10 см), что затрудняет чтение широких оригинал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иферийные устройства ввода информаци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кане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E020A-1E95-4D08-9E84-44A3C1128ED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30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282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2444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290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Ручной" descr=""/>
          <p:cNvPicPr/>
          <p:nvPr/>
        </p:nvPicPr>
        <p:blipFill>
          <a:blip r:embed="rId1"/>
          <a:stretch/>
        </p:blipFill>
        <p:spPr>
          <a:xfrm>
            <a:off x="1619280" y="1484280"/>
            <a:ext cx="1266840" cy="1019160"/>
          </a:xfrm>
          <a:prstGeom prst="rect">
            <a:avLst/>
          </a:prstGeom>
          <a:ln w="0">
            <a:noFill/>
          </a:ln>
        </p:spPr>
      </p:pic>
      <p:pic>
        <p:nvPicPr>
          <p:cNvPr id="175" name="Лазерный" descr=""/>
          <p:cNvPicPr/>
          <p:nvPr/>
        </p:nvPicPr>
        <p:blipFill>
          <a:blip r:embed="rId2"/>
          <a:stretch/>
        </p:blipFill>
        <p:spPr>
          <a:xfrm>
            <a:off x="5148360" y="1557360"/>
            <a:ext cx="895320" cy="89532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0" y="21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204080" y="3215160"/>
            <a:ext cx="73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4600" y="2528280"/>
            <a:ext cx="70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светодиодный ручной сканер)    (лазерный ручной сканер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4000" y="1233360"/>
            <a:ext cx="8496000" cy="507528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арабанные сканеры  применяются в профессиональной типографической деятельности. Принцип заключается в том, что оригинал на барабане освещается источником света, а фотосенсоры переводят отраженное излучение в цифровое знач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истовые сканеры. Их основное отличие от двух предыдущих в том, что при сканировании неподвижно закреплена линейка с CCD - элементами, а лист со сканируемым изображением движется относительно нее с помощью специальных вали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аншетные сканеры. Это самый распространенный сейчас вид для профессиональных работ. Сканируемый объект помещается на стеклянный лист, изображение построчно с равномерной скоростью считывается головкой чтения с CCD - сенсорами, расположенной снизу. Планшетный сканер может быть оборудован специальным устройством слайд-приставкой для сканирования диапозитивов и негатив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екционные сканеры. Относительно новое направление. Цветной проекционный сканер является мощным многофункциональным средством для ввода в компьютер любых цветных изображений, включая трехмерные. Он вполне может заменить фотоаппара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spcBef>
                <a:spcPts val="224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spcBef>
                <a:spcPts val="224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spcBef>
                <a:spcPts val="224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spcBef>
                <a:spcPts val="224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spcBef>
                <a:spcPts val="224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иферийные устройства ввода информаци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кане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006C4-1CBC-47F4-9846-5E76AABE6CF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30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282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2444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290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21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204080" y="3215160"/>
            <a:ext cx="73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Рекомендуемая литерату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Пример списка литера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79C13-0BDE-4D83-8F94-AD7A5FA1D47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ук М.Ю. Аппаратные средств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BM P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– М.: Изд-во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ите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2006. – 1072 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артыка Т.Л., Попов И.И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ериферийные устройства вычислительной техник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– М.: Изд-во «Питер", 2007. – 432 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1D79F-7176-449B-B8E7-EA152C90B47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24000" y="3860640"/>
            <a:ext cx="84960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Использование материалов презент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План лекций</a:t>
            </a: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6CF40-9E9F-4696-933E-C699DFD76C2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начение и группы периферийных устройст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тройства ввода-выв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тройства вв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тройства выв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значение периферийных устройст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F96D8-06BE-491C-A3A7-A246FD73025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219240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257652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24000" y="296064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1449360"/>
            <a:ext cx="8496000" cy="46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ное назначение ПУ - обеспечить поступление в ПК из окружающей среды программ и данных для обработки, а также выдачу результатов работы ПК в виде, пригодном для восприятия человека или для передачи на другую ЭВМ, или в иной, необходимой форме. ПУ в немалой степени определяют возможности применения П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000"/>
                            </p:stCondLst>
                            <p:childTnLst>
                              <p:par>
                                <p:cTn id="8" nodeType="afterEffect" fill="hold" presetClass="entr" presetID="10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400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79280" y="189000"/>
            <a:ext cx="849636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лассификация периферийных устройст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EDCCC-9F0F-443C-9F21-669BAA7DB70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79280" y="728640"/>
            <a:ext cx="8569440" cy="594036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ериферийные устройства можно разделить на несколько групп по функциональному назначению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стройства ввода-вывода – предназначены для ввода информации в ПК, вывода в необходимом для оператора формате или обмена информацией с другими ПК. К такому типу ПУ можно отнести внешние накопители (ленточные, магнитооптические), модем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стройства вывода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предназначены для  вывода информации в необходимом для оператора формате. К этому типу периферийных устройств относятся: принтер, монитор (дисплей), аудиосисте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стройства ввода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Устройствами ввода  являются устройства, посредством  которых можно ввести информацию  в  компьютер.  Главное  их предназначение - реализовывать воздействие на машину. К такому виду периферийных устройств относятся: клавиатура (входит в базовую конфигурацию ПК), сканер, графический планшет и т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4000" y="1413000"/>
            <a:ext cx="8496000" cy="493236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нточные (магнитные)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накопител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стримеры. Благодаря достаточно большому объему и довольно высокой надежности чаще всего используются в рамках устройств резервного копирования данных на предприятиях и в крупных компаниях (хранят резервные копии баз данных и другой важной информации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нцип записи на магнитных носителях основан на изменении намагниченности отдельных участков магнитного слоя носителя. Запись осуществляется при помощи магнитной головки, которая создает магнитное поле. При считывании информации намагниченные участки создают в магнитной головке слабые токи, которые превращаются в двоичный код, соответствующий записанно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иферийные устройства ввода-вывода информ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нешние накопители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05A72-7625-4D5E-93CC-05092E502AA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0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3419640" y="1665360"/>
          <a:ext cx="1247760" cy="85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9640" y="1665360"/>
                    <a:ext cx="1247760" cy="85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иферийные устройства ввода-вывода информ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нешние накопител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EE6D9-ADF6-48DA-86F2-F81762811BA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219240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4000" y="257652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296064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24000" y="1449360"/>
            <a:ext cx="8496000" cy="46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гнитооптические накопители – приводы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W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V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DVD-RW. Также могут использоваться в качестве устройств резервного копирования, но, в отличие от стримеров, обладают гораздо меньшей вместимостью данных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W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до 70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B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данных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V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DVD-RW до 4.7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B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данных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дисках, которые позволяют многократную перезапись, применяется магнитооптический принцип, в основу которого положено физическое свойство: коэффициент отражения лазерного луча от по-разному намагниченных участков диска с особым образом нанесенным магнитным покрытием различе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i2" descr=""/>
          <p:cNvPicPr/>
          <p:nvPr/>
        </p:nvPicPr>
        <p:blipFill>
          <a:blip r:embed="rId1"/>
          <a:stretch/>
        </p:blipFill>
        <p:spPr>
          <a:xfrm>
            <a:off x="2050920" y="1628640"/>
            <a:ext cx="1257480" cy="885960"/>
          </a:xfrm>
          <a:prstGeom prst="rect">
            <a:avLst/>
          </a:prstGeom>
          <a:ln w="0">
            <a:noFill/>
          </a:ln>
        </p:spPr>
      </p:pic>
      <p:pic>
        <p:nvPicPr>
          <p:cNvPr id="77" name="i4" descr=""/>
          <p:cNvPicPr/>
          <p:nvPr/>
        </p:nvPicPr>
        <p:blipFill>
          <a:blip r:embed="rId2"/>
          <a:stretch/>
        </p:blipFill>
        <p:spPr>
          <a:xfrm>
            <a:off x="4319640" y="159228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0" y="227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268160" y="3155040"/>
            <a:ext cx="607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447200" y="2720160"/>
            <a:ext cx="46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вод лазерных дисков и сам носитель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4000"/>
                            </p:stCondLst>
                            <p:childTnLst>
                              <p:par>
                                <p:cTn id="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0"/>
                            </p:stCondLst>
                            <p:childTnLst>
                              <p:par>
                                <p:cTn id="36" nodeType="after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1413000"/>
            <a:ext cx="8496000" cy="493236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 этой разновидности памяти пользователи предъявляют несколько скромных требовани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нергонезависимость – т.е. не нуждаться в батарейках, неожиданная разрядка которых приведет к потере информ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дежность – не потерять данные под воздействием грозы, падении или при попадании в луж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мпактной – чтобы не размышлять, а стоит ли тащить все это с соб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лговечной – чтобы не бегать в магазин каждый месяц за новой, т.к. старая отслужила свой ср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ниверсальной – совместимой со множеством устройств, в которых могут потребоваться данны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иферийные устройства ввода-вывода информ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лэш-карты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DBC15-5534-47B7-A22C-8AD3D4930C1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30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ispimage2" descr=""/>
          <p:cNvPicPr/>
          <p:nvPr/>
        </p:nvPicPr>
        <p:blipFill>
          <a:blip r:embed="rId1"/>
          <a:stretch/>
        </p:blipFill>
        <p:spPr>
          <a:xfrm>
            <a:off x="4680000" y="1592280"/>
            <a:ext cx="1152360" cy="1152360"/>
          </a:xfrm>
          <a:prstGeom prst="rect">
            <a:avLst/>
          </a:prstGeom>
          <a:ln w="0">
            <a:noFill/>
          </a:ln>
        </p:spPr>
      </p:pic>
      <p:pic>
        <p:nvPicPr>
          <p:cNvPr id="88" name="ispimage" descr=""/>
          <p:cNvPicPr/>
          <p:nvPr/>
        </p:nvPicPr>
        <p:blipFill>
          <a:blip r:embed="rId2"/>
          <a:stretch/>
        </p:blipFill>
        <p:spPr>
          <a:xfrm>
            <a:off x="3095640" y="1665360"/>
            <a:ext cx="1133640" cy="9428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225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394080" y="2791800"/>
            <a:ext cx="170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Флэш-карты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1413000"/>
            <a:ext cx="8496000" cy="493236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настоящее время существуют два вида модемов: аналоговые и цифровые (технологи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DSL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алоговые модемы более популярны из-за своей дешевизны и используются в основном для выхода в сеть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et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и только иногда (из-за невысокой (до 56 Кбит/с) скорости передачи данных) для связи с другими ПК. Цифровые же модемы довольно дорогие и используются для высокоскоростных соединений с сетью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et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либо для организации локальной сети на больших расстояниях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DSL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модемы позволяют передавать и принимать информацию со скоростью до 5Мбит/с на расстоянии 5-7 км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иферийные устройства ввода-вывода информ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дем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856CD-5B9A-4399-8217-98B33D59DCB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30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i2" descr=""/>
          <p:cNvPicPr/>
          <p:nvPr/>
        </p:nvPicPr>
        <p:blipFill>
          <a:blip r:embed="rId1"/>
          <a:stretch/>
        </p:blipFill>
        <p:spPr>
          <a:xfrm>
            <a:off x="2519280" y="2168640"/>
            <a:ext cx="1067040" cy="780840"/>
          </a:xfrm>
          <a:prstGeom prst="rect">
            <a:avLst/>
          </a:prstGeom>
          <a:ln w="0">
            <a:noFill/>
          </a:ln>
        </p:spPr>
      </p:pic>
      <p:pic>
        <p:nvPicPr>
          <p:cNvPr id="98" name="i4" descr=""/>
          <p:cNvPicPr/>
          <p:nvPr/>
        </p:nvPicPr>
        <p:blipFill>
          <a:blip r:embed="rId2"/>
          <a:stretch/>
        </p:blipFill>
        <p:spPr>
          <a:xfrm>
            <a:off x="5148360" y="2205000"/>
            <a:ext cx="1257120" cy="8096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0" y="235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26200" y="3138840"/>
            <a:ext cx="209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701360" y="3080520"/>
            <a:ext cx="551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Аналоговый  модем)    (Цифровой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xDSL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 модем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4000" y="1413000"/>
            <a:ext cx="8496000" cy="493236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ЛТ мониторы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основе электронно-лучевой труб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лектронно-лучевая трубка (кинескоп) — электровакуумный прибор, преобразующий электрические сигналы в световы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лектронно-лучевые приборы — класс электровакуумных электронных приборов, предназначенных для преобразований информации, представленной в форме электрических или световых сигналов. В приборах используются сфокусированные потоки электронов, управляемые по интенсивности и положению в пространств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иферийные устройства вывода информаци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нитор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665EE-1825-45B9-828F-811B1920EF7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30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282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i2" descr=""/>
          <p:cNvPicPr/>
          <p:nvPr/>
        </p:nvPicPr>
        <p:blipFill>
          <a:blip r:embed="rId1"/>
          <a:stretch/>
        </p:blipFill>
        <p:spPr>
          <a:xfrm>
            <a:off x="3635280" y="1592280"/>
            <a:ext cx="1190880" cy="9619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3409200" y="2575800"/>
            <a:ext cx="160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ЭЛТ-мони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/>
  <dc:language>en-US</dc:language>
  <cp:lastModifiedBy>s</cp:lastModifiedBy>
  <dcterms:modified xsi:type="dcterms:W3CDTF">2009-01-26T00:30:28Z</dcterms:modified>
  <cp:revision>92</cp:revision>
  <dc:subject/>
  <dc:title>Lecture Template </dc:title>
</cp:coreProperties>
</file>